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9413-E46F-44EA-A87F-49B9ECF02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2F2C-E5BA-46C8-9786-41FC8AF20C7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3B49-8F17-47B1-B1AA-1BA06DFF1E6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BEA0-DF2B-43C8-9A3B-80A94A08A3B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AA12-613C-4A80-8651-EE2BF49BF20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9D61-5FF8-4B56-A77D-8B215C2E1CE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2B84-E7CF-43B8-AC04-95E40251DF1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5CDE-0518-4000-BF3F-4B451488E8D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BE2E-52EA-4C44-A74E-112642B97AE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2FCE-7521-4799-AD0B-D81E843153B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D80D-CA30-4D68-922D-A85B9870B59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338C-9DA9-4061-9558-031A3073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86D-1DDC-4ACC-B02E-045A363E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BA3F-9218-41B7-B2CE-C6EDB3D8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95EE-17CE-4E52-BE4C-F102BE8A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5187-AA39-4492-A583-707C692A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5E4C-D956-4489-A96B-D7B6841F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4B8C-402A-42B6-9610-54C77211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E5A4-39B2-475E-B97A-27FBFA51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8943-CAD3-44BE-BD0C-FCBCD1EE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BD1E-D92F-42BB-AD7F-FE6A7179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7AE6-743C-4647-B8CB-9B3679AD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358-C669-4B3C-80B1-061DE6DC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B334-59E9-419D-8F51-0BFF87DD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452F-80AF-47BE-8FAA-CAA1976D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AF07-D1AE-4FDA-BD81-B487FF23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EA9D-E9EA-41E2-92ED-C8E87102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8CEE-12C6-4805-AD58-58DB56C2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DE8-B6F1-4608-AD41-02DEE0D3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AF2E-0F86-45ED-94E7-E065EAE3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872E-56E8-4AE0-B8FB-6F47790E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E208-CA10-4A9F-B495-ACE84DD1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FA99-2302-456A-9DAC-75592BB1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EF6B-8D16-4818-8D8E-0E419B63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5662-B574-4EEA-B433-2CE315E5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9ADB-96F0-45D1-AEB3-0791A197E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BF92-6DAC-44DB-AC89-9E76F3EB69A9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hinking Through Your Lesson Plan Assignmen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 guided reading less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Pre-reading </a:t>
            </a: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(activate background knowledge, introduce challenging concepts, set purpose)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During reading </a:t>
            </a: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(read at instructional level for a purpose with support; silent/oral reading combined with individualized support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Post-reading </a:t>
            </a: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(respond to text and apply strategies more independently – with partners or alone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happens during guide reading? </a:t>
            </a: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EACHER’s role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lect appropriate text; introduce (activate background knowledge &amp; introduce challenging vocab, ideas, themes); Set a purpose for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During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istens in; observes strategy use; 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teracts when having difficulty; teaches a min-lesson that addresses challenge; makes note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After</a:t>
            </a: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vites personal response/discussion, assesses understanding of what they read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happens during guide reading? </a:t>
            </a: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TUDENT’s role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5960" y="1980720"/>
            <a:ext cx="8762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ngage in conversation about text; ask questions; build expectations; notice info in tex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During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ad the whole text or a certain section for a certain purpose (silently or softly when younger); NOT ROUND ROBIN! monitor understanding &amp; apply strategies/request help when problem solv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After</a:t>
            </a: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alk about text; revisit the text; engage in extending and responding to the text (reading and writing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itting Into A Balanced Literacy Program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2057040"/>
            <a:ext cx="3657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ading alou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hared read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Guided read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artner read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dep. read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3" name="Content Placeholder 2"/>
          <p:cNvSpPr/>
          <p:nvPr/>
        </p:nvSpPr>
        <p:spPr>
          <a:xfrm>
            <a:off x="4495680" y="2057400"/>
            <a:ext cx="3810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hared writ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teractive writ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uided writ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artner writ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dep. writ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4" name="Content Placeholder 2"/>
          <p:cNvSpPr/>
          <p:nvPr/>
        </p:nvSpPr>
        <p:spPr>
          <a:xfrm>
            <a:off x="838080" y="5029200"/>
            <a:ext cx="7239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ink through themes; Involve famil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ocument progress &amp; adapt suppor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Picture 1.png"/>
          <p:cNvPicPr/>
          <p:nvPr/>
        </p:nvPicPr>
        <p:blipFill>
          <a:blip r:embed="rId1"/>
          <a:stretch/>
        </p:blipFill>
        <p:spPr>
          <a:xfrm>
            <a:off x="1130400" y="196920"/>
            <a:ext cx="6883200" cy="6464160"/>
          </a:xfrm>
          <a:prstGeom prst="rect">
            <a:avLst/>
          </a:prstGeom>
          <a:ln w="28440">
            <a:solidFill>
              <a:srgbClr val="330000"/>
            </a:solidFill>
            <a:miter/>
          </a:ln>
        </p:spPr>
      </p:pic>
      <p:sp>
        <p:nvSpPr>
          <p:cNvPr id="136" name="TextBox 4"/>
          <p:cNvSpPr/>
          <p:nvPr/>
        </p:nvSpPr>
        <p:spPr>
          <a:xfrm>
            <a:off x="30240" y="838080"/>
            <a:ext cx="5889600" cy="1557000"/>
          </a:xfrm>
          <a:prstGeom prst="rect">
            <a:avLst/>
          </a:prstGeom>
          <a:solidFill>
            <a:srgbClr val="ffd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re-reading: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evelop background knowledg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ngage with book’s them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et purpose for reading (link to objectives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2535480" y="2666880"/>
            <a:ext cx="3650760" cy="1557000"/>
          </a:xfrm>
          <a:prstGeom prst="rect">
            <a:avLst/>
          </a:prstGeom>
          <a:solidFill>
            <a:srgbClr val="ffd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During reading: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deling strateg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Guided reading question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content &amp; strategy use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5355360" y="4419720"/>
            <a:ext cx="3870360" cy="1557000"/>
          </a:xfrm>
          <a:prstGeom prst="rect">
            <a:avLst/>
          </a:prstGeom>
          <a:solidFill>
            <a:srgbClr val="ffd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ost reading: (CENTERS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sponse activitie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dep Strategy Applica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ssessment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esson Plan Assignmen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et’s look at Sample Lesson Plan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esson Plan Assignment Handou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esson Plan Templat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Questions?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riting Learning Objectives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for your Lesson Plans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ree Criteria for a 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earning Objectiv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Clear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Usually just one sentence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Precise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ecise verbs that reflect the thinking your students will be doing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00"/>
                </a:solidFill>
                <a:latin typeface="Arial"/>
              </a:rPr>
              <a:t>Set a contex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Given…; After…; Before…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Measurabl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will you measure the “quality” (%age or criteria met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art with the top level and work backwards through average and below averag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riting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iven _____, students will _____ (verb and specifics) with (measurable) ____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% accuracy or to a certain level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Reading Proces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What strategy will students apply as they interact with this text? 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Response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How will students respond to the deeper meaning within the text?  (theme, character development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will use a three-column “prediction journal” to make and revise at least two meaningful predictions in chapters 43 &amp; 44 and state the clues they used to make those predictions.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will use a “Character Summary” worksheet to describe the personality and physical attributes of an assigned character as well as his/her relationship with Maniac Magee and his/her feelings toward racial segregat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1-11:15 Three book talk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1:15-11:20 Review where think-aloud modeling and metacognitive framework fits into the structure of good teach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1:20-11:40 Sum up big ideas about Guided Reading (and ask questions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1:40-12:00 Link to lesson plan assignmen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2:00-12:10 Writing objective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2:10-12:15 Introduce Hollis Wood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Reading strategy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student wil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edict and confirm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ummarize the key issu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nitor their understan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sk questions/reflec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how the relationship between concep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e inferences and support with evidenc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raw conclusion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e connections between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Visualiz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723600" y="6248520"/>
            <a:ext cx="756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Use your strategy textbook for examples and idea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Reading Response Objective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scuss change/growth in character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spond to/reflect on “big ideas” or optimistic messag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spond by connecting to…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oticing author’s craft (plot, language, etc.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xtend with interdisciplinary connections (art, poetry, drama, Internet workshop, journaling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e p. 421 &amp; 432 for other response ideas!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195480" y="6248520"/>
            <a:ext cx="87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Use your literature genres textbook for examples and idea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ursday: Video Reflections Due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ursday: Hollis Woods Chapters 1-5 (Summary Notes due for Ch. 1-5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Hollis Woods’ search for a family is a perpetual journey, as she moves from one foster home to another until she meets the Regan family and two rather quirky elderly women who teach her a lot about love, friendship, &amp; belong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Linking to Our Last Clas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Metacognitive Teaching Framework</a:t>
            </a:r>
            <a:br>
              <a:rPr sz="3600"/>
            </a:b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Where is think-aloud in the process?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386600" y="6308640"/>
            <a:ext cx="34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Kelly &amp; Clausen-Grace, 2007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97" name="Group 6"/>
          <p:cNvGrpSpPr/>
          <p:nvPr/>
        </p:nvGrpSpPr>
        <p:grpSpPr>
          <a:xfrm>
            <a:off x="685800" y="1981080"/>
            <a:ext cx="8538120" cy="2057400"/>
            <a:chOff x="685800" y="1981080"/>
            <a:chExt cx="8538120" cy="2057400"/>
          </a:xfrm>
        </p:grpSpPr>
        <p:sp>
          <p:nvSpPr>
            <p:cNvPr id="98" name="Rectangle 4"/>
            <p:cNvSpPr/>
            <p:nvPr/>
          </p:nvSpPr>
          <p:spPr>
            <a:xfrm>
              <a:off x="685800" y="1981080"/>
              <a:ext cx="6400800" cy="2057400"/>
            </a:xfrm>
            <a:prstGeom prst="rect">
              <a:avLst/>
            </a:prstGeom>
            <a:solidFill>
              <a:srgbClr val="ffd1d1"/>
            </a:solidFill>
            <a:ln w="9360">
              <a:solidFill>
                <a:srgbClr val="33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99" name="TextBox 5"/>
            <p:cNvSpPr/>
            <p:nvPr/>
          </p:nvSpPr>
          <p:spPr>
            <a:xfrm>
              <a:off x="6843960" y="2514240"/>
              <a:ext cx="2379960" cy="10998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0000"/>
                  </a:solidFill>
                  <a:latin typeface="Arial"/>
                </a:rPr>
                <a:t>THINK-ALOUD 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0000"/>
                  </a:solidFill>
                  <a:latin typeface="Arial"/>
                </a:rPr>
                <a:t>SCRIPT 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00"/>
                  </a:solidFill>
                  <a:latin typeface="Arial"/>
                </a:rPr>
                <a:t>part of…</a:t>
              </a:r>
              <a:endParaRPr b="0" lang="en-US" sz="18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1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k Alou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roduce, Explain, and Define Strategy Compon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Notice and apply strategy compon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larify strategy purpos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2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fine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small and whole group practice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3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et Strategy Use Gel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apply in literature circles and content area studies)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4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elf-assessment/goal sett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flect, monitor, and increase use of strateg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6643800" y="5029200"/>
            <a:ext cx="23446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ESSON PLA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cxnSp>
        <p:nvCxnSpPr>
          <p:cNvPr id="102" name="Straight Arrow Connector 9"/>
          <p:cNvCxnSpPr/>
          <p:nvPr/>
        </p:nvCxnSpPr>
        <p:spPr>
          <a:xfrm flipH="1">
            <a:off x="8074800" y="3582720"/>
            <a:ext cx="3960" cy="144828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80880" y="594684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del, think-aloud, and SCAFFOLD your strategy suppor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5" name="Picture 5" descr="Picture 2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40896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1066680" y="30492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romote Independence by Gradually releasing Responsibility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532440" y="1455840"/>
            <a:ext cx="2058120" cy="82548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WATCH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2376360" y="2590920"/>
            <a:ext cx="1736640" cy="82548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HELP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4648320" y="2971800"/>
            <a:ext cx="1676160" cy="82548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 HELP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6629400" y="4724280"/>
            <a:ext cx="1676520" cy="82548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 WATCH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YOU D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80880" y="594684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del, think-aloud, and SCAFFOLD your strategy suppor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13" name="Picture 5" descr="Picture 2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40896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1066680" y="30492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romote Independence by Gradually releasing Responsibility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46480" y="1455840"/>
            <a:ext cx="2294640" cy="70308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I DO - YOU WATCH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HINK-ALOU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1685520" y="2590920"/>
            <a:ext cx="2061360" cy="131292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I DO - YOU HELP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FIN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Small group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guided practice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3886200" y="3432240"/>
            <a:ext cx="3809880" cy="128304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I HELP - YOU DO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LET STRATEGY USE G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Apply with peers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(lit circles, center activities)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5105520" y="4876920"/>
            <a:ext cx="3962160" cy="703800"/>
          </a:xfrm>
          <a:prstGeom prst="rect">
            <a:avLst/>
          </a:prstGeom>
          <a:solidFill>
            <a:srgbClr val="ff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I WATCH - YOU DO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SELF-ASSESS &amp; SET GOAL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Is Guided Reading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807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mall group time when teachers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show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children how to read and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support them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as they read “independently”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heart of a balanced literacy program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pportunity for students to participate in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socially supported activity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ile constructing mean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pportunity to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practice/develop reading strategie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nd tackle books at their “instructional level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pportunity for teachers to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observe and support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dividual need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Where does Guided Reading fit into a balanced literacy program?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ading Aloud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experience literary work they cannot yet read (e.g., decode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hared Reading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participate in reading and learn how print works (MODELING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GUIDED READING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Modeling &gt; Practice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Indep. Reading: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sponse Journals/Literature Circle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Revisit &amp; Think more deeply about text and co-construct new understan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does the classroom look like?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uided Reading Across the Grade Level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K-1</a:t>
            </a: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: Concepts of print; early phonics (letter-sound relationships); intro to genres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Grades 2-3</a:t>
            </a: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: Integrating reading comprehension and vocabulary strategies across multiple genres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00"/>
                </a:solidFill>
                <a:latin typeface="Arial"/>
              </a:rPr>
              <a:t>Grade 4-6</a:t>
            </a: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: Deeper understanding of story elements (plot, characters, theme) &amp; informational texts (key ideas and supporting details)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7:17:20Z</dcterms:created>
  <dc:creator>Julie Coiro</dc:creator>
  <dc:description/>
  <dc:language>en-US</dc:language>
  <cp:lastModifiedBy>Julie Coiro</cp:lastModifiedBy>
  <cp:lastPrinted>2009-11-10T04:01:33Z</cp:lastPrinted>
  <dcterms:modified xsi:type="dcterms:W3CDTF">2010-10-26T00:43:54Z</dcterms:modified>
  <cp:revision>220</cp:revision>
  <dc:subject/>
  <dc:title>Metacognitive Strategy Instruction to Enhance Reading Comprehension</dc:title>
</cp:coreProperties>
</file>